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B418-293A-4265-A138-3AE7EDFEA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BD9B-19DB-4EC8-BBE1-07DE66F7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D25E-C7C7-4076-9D14-9DA819068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E055-6E73-46B4-989A-44D85F765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9117-2BA3-4C2C-A692-3BF51731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81B4-63F0-4439-A2ED-47DDE2B0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A129-50CC-4697-B163-D369853A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9E32-5B7F-4BFC-B23C-AA580832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51A5-C1A6-48D0-A69A-6E926DF0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7A7F-9959-4AEF-9ACF-54529E73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10F4-6336-4982-952A-3E656E75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68D1-1FEE-4033-ABE9-52FA25E5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40FA-A57F-45FC-BC01-1E28D1BDD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1265400"/>
            <a:ext cx="9144000" cy="3992400"/>
            <a:chOff x="0" y="1265400"/>
            <a:chExt cx="9144000" cy="399240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0" y="1265400"/>
              <a:ext cx="9144000" cy="389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2654280" y="4084920"/>
              <a:ext cx="5651640" cy="1172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2:17:54Z</dcterms:created>
  <dc:creator>Dr. Kerstin Lieneman</dc:creator>
  <dc:description/>
  <dc:language>en-US</dc:language>
  <cp:lastModifiedBy>Dr. Kerstin Lieneman</cp:lastModifiedBy>
  <dcterms:modified xsi:type="dcterms:W3CDTF">2010-04-19T12:22:47Z</dcterms:modified>
  <cp:revision>1</cp:revision>
  <dc:subject/>
  <dc:title>PowerPoint-Präsentation</dc:title>
</cp:coreProperties>
</file>